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5320-7682-4936-819A-DC4486B58CB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Colocar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A451-F5B4-4062-838B-79656DFD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7E09-4AAE-4082-BEBC-93022713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C067-694F-4C03-BFED-EBF33C37C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112F-5372-4AEA-8F71-A37AB48D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9C37-3651-479B-A45C-FFA3F848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C30E-6E1A-4F0B-89DA-554A00C3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6099-161A-47E5-B10F-8AF4D86C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5D2D-96D9-4112-8BE0-FA576C90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C621-2432-442C-8871-24F245C5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4A15-05A5-4615-A6FC-3E2E2CF3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A61C-9E74-40F3-984F-641FD003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BB5E-D26E-4AB8-9DE9-03A6CC3E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4D14-5897-4FFA-BE71-8BB076FBE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52280" y="457200"/>
          <a:ext cx="6324840" cy="576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57200"/>
                    <a:ext cx="632484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4043160" y="6248520"/>
            <a:ext cx="24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Arial"/>
              </a:rPr>
              <a:t>fuente: Libro Oro de SN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2320" y="-15480"/>
            <a:ext cx="652824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COMPETITIVIDAD DE LA HARINA DE PESCADO CON LA HARINA DE SOY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52280" y="380880"/>
          <a:ext cx="8686800" cy="6286680"/>
        </p:xfrm>
        <a:graphic>
          <a:graphicData uri="http://schemas.openxmlformats.org/drawingml/2006/table">
            <a:tbl>
              <a:tblPr/>
              <a:tblGrid>
                <a:gridCol w="1600200"/>
                <a:gridCol w="2895840"/>
                <a:gridCol w="419076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rigen común como fertiliz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lanta de soya  utilizada 1134-246 AC. China Dinastía Ch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choveta /sardi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00-1400D.C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imento Prima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-140 AC</a:t>
                      </a: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to fermentado Natto, Miso, Salsa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pués como tof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apon-Indone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scado seco sal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sumo Industrial ( harin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 19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ú 1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tes, Japón, 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imento dir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teína de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eche de Soya</a:t>
                      </a: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ntabilidad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$ 2´ a 300´ (1980-2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centrado prote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apón / Pesca Per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82: Marine bee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mportancia al año 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to Milagroso (*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: 72’ acres/74’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ndo:180’ 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sumo Producto para la acuicultura mundial de alime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ú: 1’ 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ndo: 2.4’ TM (6’ M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vestigación y Posicionamiento del mercado mund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$80’-100’/anho auspiciado por United Soy bean board (*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inanciamiento 0.5/1.0% del precio de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F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nisterio de Produc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nisterio de R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N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mar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mp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a Banca/Univers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52280" y="457200"/>
          <a:ext cx="8915400" cy="6149880"/>
        </p:xfrm>
        <a:graphic>
          <a:graphicData uri="http://schemas.openxmlformats.org/drawingml/2006/table">
            <a:tbl>
              <a:tblPr/>
              <a:tblGrid>
                <a:gridCol w="1447920"/>
                <a:gridCol w="2819520"/>
                <a:gridCol w="46479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versión física en la productividad del produc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conversión debido a baja digestibilida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yor contaminación 1000m3 de agua / 1 TM Prod. 1 Ha de tierra cultivada rinde 2.5-3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yor conversión debido a alta digesti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contaminación 1000m3 agua mar / 20TM pescado. 1Ha de superficie cultivada de mar rinde 180/200 TM de pesca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alud y nutri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tinutrientes y o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ipsina (enzima bloquea absorción proteín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Ácido phistatico (baja absorción minerales) en Zinc requiere lysina y methion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ecuada estructura de amino ácidos y niveles de Zn ingesta de pescado favorece el sistema nervioso y evita la depre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mega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servación del amb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fecto largo plaz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sticidas, herbici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aza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fectos inmediatos trazabilidad y presión de no alterar ecosistema Antibióticos, vacu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4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u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ran éxito en la producción y participación de alimentos balanceados inclusive se ofrecen productos con 92%`de digestibilidad y que pueden sustituir el 80% de harina de pesc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camarones) Producto final: Como carne de vacuno crece al 2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participación en la producción de alimentos balanceados .Precios altos incidirán en Mayor sustitución 70% de participación en 1972 y 35% hoy d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ustitución, escasa promoción y extensión del producto acuicul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dida y/o reducción de mercado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ailandia, Taiwá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cio producto final Desplazamiento d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rcado para acuicultura, Maricul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150480" y="685800"/>
            <a:ext cx="5275440" cy="5410080"/>
            <a:chOff x="150480" y="685800"/>
            <a:chExt cx="5275440" cy="5410080"/>
          </a:xfrm>
        </p:grpSpPr>
        <p:sp>
          <p:nvSpPr>
            <p:cNvPr id="120" name=""/>
            <p:cNvSpPr/>
            <p:nvPr/>
          </p:nvSpPr>
          <p:spPr>
            <a:xfrm>
              <a:off x="168120" y="685800"/>
              <a:ext cx="5257800" cy="5410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9360" y="2209680"/>
              <a:ext cx="4647960" cy="3124440"/>
            </a:xfrm>
            <a:custGeom>
              <a:avLst/>
              <a:gdLst/>
              <a:ahLst/>
              <a:rect l="l" t="t" r="r" b="b"/>
              <a:pathLst>
                <a:path w="2928" h="1968">
                  <a:moveTo>
                    <a:pt x="0" y="1968"/>
                  </a:moveTo>
                  <a:lnTo>
                    <a:pt x="192" y="1968"/>
                  </a:lnTo>
                  <a:lnTo>
                    <a:pt x="528" y="1920"/>
                  </a:lnTo>
                  <a:lnTo>
                    <a:pt x="768" y="1920"/>
                  </a:lnTo>
                  <a:lnTo>
                    <a:pt x="1056" y="1824"/>
                  </a:lnTo>
                  <a:lnTo>
                    <a:pt x="1344" y="1728"/>
                  </a:lnTo>
                  <a:lnTo>
                    <a:pt x="1632" y="1536"/>
                  </a:lnTo>
                  <a:lnTo>
                    <a:pt x="1824" y="1392"/>
                  </a:lnTo>
                  <a:lnTo>
                    <a:pt x="1968" y="1344"/>
                  </a:lnTo>
                  <a:lnTo>
                    <a:pt x="2064" y="1296"/>
                  </a:lnTo>
                  <a:lnTo>
                    <a:pt x="2256" y="1056"/>
                  </a:lnTo>
                  <a:lnTo>
                    <a:pt x="2448" y="768"/>
                  </a:lnTo>
                  <a:lnTo>
                    <a:pt x="2592" y="432"/>
                  </a:lnTo>
                  <a:lnTo>
                    <a:pt x="2736" y="288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9360" y="4038480"/>
              <a:ext cx="4647960" cy="1371600"/>
            </a:xfrm>
            <a:custGeom>
              <a:avLst/>
              <a:gdLst/>
              <a:ahLst/>
              <a:rect l="l" t="t" r="r" b="b"/>
              <a:pathLst>
                <a:path w="2928" h="864">
                  <a:moveTo>
                    <a:pt x="0" y="864"/>
                  </a:moveTo>
                  <a:lnTo>
                    <a:pt x="192" y="816"/>
                  </a:lnTo>
                  <a:lnTo>
                    <a:pt x="432" y="816"/>
                  </a:lnTo>
                  <a:lnTo>
                    <a:pt x="672" y="768"/>
                  </a:lnTo>
                  <a:lnTo>
                    <a:pt x="1008" y="720"/>
                  </a:lnTo>
                  <a:lnTo>
                    <a:pt x="1152" y="720"/>
                  </a:lnTo>
                  <a:lnTo>
                    <a:pt x="1392" y="672"/>
                  </a:lnTo>
                  <a:lnTo>
                    <a:pt x="1488" y="672"/>
                  </a:lnTo>
                  <a:lnTo>
                    <a:pt x="1584" y="624"/>
                  </a:lnTo>
                  <a:lnTo>
                    <a:pt x="1632" y="672"/>
                  </a:lnTo>
                  <a:lnTo>
                    <a:pt x="1872" y="576"/>
                  </a:lnTo>
                  <a:lnTo>
                    <a:pt x="1968" y="624"/>
                  </a:lnTo>
                  <a:lnTo>
                    <a:pt x="2112" y="480"/>
                  </a:lnTo>
                  <a:lnTo>
                    <a:pt x="2256" y="336"/>
                  </a:lnTo>
                  <a:lnTo>
                    <a:pt x="2400" y="336"/>
                  </a:lnTo>
                  <a:lnTo>
                    <a:pt x="2496" y="336"/>
                  </a:lnTo>
                  <a:lnTo>
                    <a:pt x="2640" y="288"/>
                  </a:lnTo>
                  <a:lnTo>
                    <a:pt x="2736" y="240"/>
                  </a:lnTo>
                  <a:lnTo>
                    <a:pt x="2784" y="144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9360" y="3886200"/>
              <a:ext cx="4724280" cy="1523880"/>
            </a:xfrm>
            <a:custGeom>
              <a:avLst/>
              <a:gdLst/>
              <a:ahLst/>
              <a:rect l="l" t="t" r="r" b="b"/>
              <a:pathLst>
                <a:path w="2976" h="960">
                  <a:moveTo>
                    <a:pt x="0" y="960"/>
                  </a:moveTo>
                  <a:lnTo>
                    <a:pt x="192" y="912"/>
                  </a:lnTo>
                  <a:lnTo>
                    <a:pt x="288" y="960"/>
                  </a:lnTo>
                  <a:lnTo>
                    <a:pt x="432" y="912"/>
                  </a:lnTo>
                  <a:lnTo>
                    <a:pt x="624" y="912"/>
                  </a:lnTo>
                  <a:lnTo>
                    <a:pt x="720" y="912"/>
                  </a:lnTo>
                  <a:lnTo>
                    <a:pt x="864" y="912"/>
                  </a:lnTo>
                  <a:lnTo>
                    <a:pt x="1104" y="864"/>
                  </a:lnTo>
                  <a:lnTo>
                    <a:pt x="1296" y="864"/>
                  </a:lnTo>
                  <a:lnTo>
                    <a:pt x="1440" y="816"/>
                  </a:lnTo>
                  <a:lnTo>
                    <a:pt x="1632" y="816"/>
                  </a:lnTo>
                  <a:lnTo>
                    <a:pt x="1776" y="720"/>
                  </a:lnTo>
                  <a:lnTo>
                    <a:pt x="2064" y="720"/>
                  </a:lnTo>
                  <a:lnTo>
                    <a:pt x="2256" y="576"/>
                  </a:lnTo>
                  <a:lnTo>
                    <a:pt x="2448" y="288"/>
                  </a:lnTo>
                  <a:lnTo>
                    <a:pt x="2640" y="288"/>
                  </a:lnTo>
                  <a:lnTo>
                    <a:pt x="2976" y="0"/>
                  </a:lnTo>
                </a:path>
              </a:pathLst>
            </a:custGeom>
            <a:noFill/>
            <a:ln w="572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9360" y="5334120"/>
              <a:ext cx="4647960" cy="228600"/>
            </a:xfrm>
            <a:custGeom>
              <a:avLst/>
              <a:gdLst/>
              <a:ahLst/>
              <a:rect l="l" t="t" r="r" b="b"/>
              <a:pathLst>
                <a:path w="2928" h="144">
                  <a:moveTo>
                    <a:pt x="0" y="144"/>
                  </a:moveTo>
                  <a:lnTo>
                    <a:pt x="288" y="144"/>
                  </a:lnTo>
                  <a:lnTo>
                    <a:pt x="768" y="144"/>
                  </a:lnTo>
                  <a:lnTo>
                    <a:pt x="1152" y="144"/>
                  </a:lnTo>
                  <a:lnTo>
                    <a:pt x="1536" y="144"/>
                  </a:lnTo>
                  <a:lnTo>
                    <a:pt x="1680" y="96"/>
                  </a:lnTo>
                  <a:lnTo>
                    <a:pt x="1920" y="96"/>
                  </a:lnTo>
                  <a:lnTo>
                    <a:pt x="2112" y="48"/>
                  </a:lnTo>
                  <a:lnTo>
                    <a:pt x="2256" y="48"/>
                  </a:lnTo>
                  <a:lnTo>
                    <a:pt x="2496" y="48"/>
                  </a:lnTo>
                  <a:lnTo>
                    <a:pt x="2688" y="48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74320" y="2295360"/>
              <a:ext cx="1756440" cy="15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Fin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Mollus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Aquatic pla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Crustacea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0760" y="1735200"/>
              <a:ext cx="433800" cy="40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1640" y="198108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1640" y="266688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5320" y="342900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1640" y="411480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5320" y="487692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8760" y="812880"/>
              <a:ext cx="525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Arial Narrow"/>
                </a:rPr>
                <a:t>Trend of World Aquaculture Production by Spe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5200" y="5675400"/>
              <a:ext cx="487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970   1975   1980   1985   1990   1995   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0480" y="1459080"/>
              <a:ext cx="100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000000"/>
                  </a:solidFill>
                  <a:latin typeface="Arial"/>
                </a:rPr>
                <a:t>Million 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86880" y="228600"/>
            <a:ext cx="517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ACUIC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304920" y="533520"/>
          <a:ext cx="6095880" cy="58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609588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flipV="1">
            <a:off x="3505320" y="2209680"/>
            <a:ext cx="198108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1600200"/>
          <a:ext cx="8229600" cy="45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523520" y="838080"/>
            <a:ext cx="178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Especie: Jur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100,000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191120" y="2666880"/>
            <a:ext cx="1371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7760" y="203040"/>
            <a:ext cx="53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RENTABILIDAD DEL RECURSO PELA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28600" y="685800"/>
          <a:ext cx="54100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54100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5638680" y="1066680"/>
            <a:ext cx="990720" cy="4546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Indir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Can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C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Froz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Fre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15000" y="42667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715000" y="34290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715000" y="32000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715000" y="28951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715000" y="190476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7360" y="62485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Arial"/>
              </a:rPr>
              <a:t>fuente: F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8400" y="152280"/>
            <a:ext cx="80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CONSUMO MUNDIAL DE PRODUCTOS PESQU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07320" y="5029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5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83280" y="3809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27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924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8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6960" y="29718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1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83280" y="2362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3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04920" y="533520"/>
          <a:ext cx="6019560" cy="58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6019560" cy="58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28600" y="533520"/>
          <a:ext cx="670572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33520"/>
                    <a:ext cx="67057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96324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05160" y="17524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7793600">
            <a:off x="644040" y="4870800"/>
            <a:ext cx="2628000" cy="14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84485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844853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 rot="10752600">
            <a:off x="2818440" y="3530160"/>
            <a:ext cx="1060200" cy="339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 rot="10752600">
            <a:off x="3882600" y="3219120"/>
            <a:ext cx="1401480" cy="401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10752600">
            <a:off x="5281920" y="3372480"/>
            <a:ext cx="1195200" cy="355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6"/>
                </a:moveTo>
                <a:arcTo wR="10800" hR="10800" stAng="10645312" swAng="10954688"/>
                <a:lnTo>
                  <a:pt x="10800" y="10800"/>
                </a:lnTo>
                <a:close/>
              </a:path>
              <a:path fill="none" w="21600" h="21600">
                <a:moveTo>
                  <a:pt x="11" y="11286"/>
                </a:moveTo>
                <a:arcTo wR="10800" hR="10800" stAng="10645312" swAng="10954688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 rot="10031400">
            <a:off x="6522120" y="4055040"/>
            <a:ext cx="1018440" cy="247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96" y="7564"/>
                </a:moveTo>
                <a:arcTo wR="10800" hR="10800" stAng="-9753862" swAng="9753862"/>
                <a:lnTo>
                  <a:pt x="10800" y="10800"/>
                </a:lnTo>
                <a:close/>
              </a:path>
              <a:path fill="none" w="21600" h="21600">
                <a:moveTo>
                  <a:pt x="496" y="7564"/>
                </a:moveTo>
                <a:arcTo wR="10800" hR="10800" stAng="-9753862" swAng="9753862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7793600">
            <a:off x="-860400" y="3645360"/>
            <a:ext cx="9753120" cy="618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52850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528502"/>
              </a:path>
            </a:pathLst>
          </a:custGeom>
          <a:noFill/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81880" y="5245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32960" y="5230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8320" y="5230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6412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5932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219320" y="6235560"/>
            <a:ext cx="6446880" cy="1296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415120" y="2060640"/>
            <a:ext cx="0" cy="31701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 rot="10800000">
            <a:off x="70200" y="4224960"/>
            <a:ext cx="1264680" cy="201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16" y="1575"/>
                </a:moveTo>
                <a:arcTo wR="10800" hR="10800" stAng="-3520161" swAng="3346117"/>
                <a:lnTo>
                  <a:pt x="10800" y="10800"/>
                </a:lnTo>
                <a:close/>
              </a:path>
              <a:path fill="none" w="21600" h="21600">
                <a:moveTo>
                  <a:pt x="16416" y="1575"/>
                </a:moveTo>
                <a:arcTo wR="10800" hR="10800" stAng="-3520161" swAng="3346117"/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84240" y="5230800"/>
            <a:ext cx="71042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02080" y="5694480"/>
            <a:ext cx="35208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5694480"/>
            <a:ext cx="35100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952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3396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85040" y="5694480"/>
            <a:ext cx="35100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11040" y="0"/>
            <a:ext cx="705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bilidades de Pronostico a Larg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99360" y="1447920"/>
            <a:ext cx="208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clos de Biom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chov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3962520"/>
            <a:ext cx="113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clo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p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592560" y="2915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ternancia Clim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20" y="5334120"/>
            <a:ext cx="12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n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28600" y="1108080"/>
          <a:ext cx="8686800" cy="46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08080"/>
                    <a:ext cx="8686800" cy="46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1480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62-19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914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92-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73400" y="32367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(Pesca promed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80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62-19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36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92-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04920" y="1060560"/>
          <a:ext cx="868680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0560"/>
                    <a:ext cx="86868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273400" y="32367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(Pesca promed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8640" y="60958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(Sin Incluir el Nino Sev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1066680"/>
          <a:ext cx="7010280" cy="48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701028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211840" y="457200"/>
            <a:ext cx="50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PESQUE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28600" y="884160"/>
          <a:ext cx="7086600" cy="50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84160"/>
                    <a:ext cx="708660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135880" y="304920"/>
            <a:ext cx="50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PESQUE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8:17:32Z</dcterms:created>
  <dc:creator>B&amp;G</dc:creator>
  <dc:description/>
  <dc:language>en-US</dc:language>
  <cp:lastModifiedBy>jore</cp:lastModifiedBy>
  <dcterms:modified xsi:type="dcterms:W3CDTF">2004-03-31T16:45:03Z</dcterms:modified>
  <cp:revision>70</cp:revision>
  <dc:subject/>
  <dc:title>Diapositiva 1</dc:title>
</cp:coreProperties>
</file>